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CFF-ACE1-40B1-9EFF-85679430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C054-E969-4D48-A7D4-1450672B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262-1199-45B5-834F-7583906C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9B16-9BCA-4725-B197-E9381AA1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0745-9FBD-4F50-98AD-40EF3740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9F5C-7ACE-4B43-80D4-C00AEDFD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C7C8-DDAE-4E68-B439-CBFE6190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5A7E-9987-466A-9BB2-08DA5B1A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8DDE-2AD0-4259-BB79-16534C2A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EB15-AA48-42CE-85DD-1DFCD8F5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B6C3-F805-485E-B2FB-C6F4A796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B72-E15A-492E-BF94-A4EAA2BE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FB78-C697-4441-BF75-08C98C45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78A5-7589-4E86-BD9A-DC40BE3E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C3FF-5682-40E7-B140-411F3EAE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92DC-3854-457C-9D3A-693D69F7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EAFA-DE8F-45B1-B8BF-C4B2A78B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D3E-41B2-4E0D-B8F8-62D1B320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81B-37E2-4873-9D81-D129EAC3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E11-0316-4CD7-9D67-3F44423C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1924-C9E4-4D9B-90C1-9205645D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73D-9166-4F6E-AF9B-40166126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4A1-5457-452B-AE03-11538E78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9B97-E337-4A20-AD62-FB4BDFA5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2F5B-D531-4BD5-8AB6-501EB5881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7E66-9668-4B6C-A62E-5B84E2030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makes a society civilised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58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velop an understanding of some of the main features of Imperial Chinese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se sources to extract information about Chinese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uss whether China was a civilized society in comparison to the Romans and Anglo Sax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perial Chin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focus on 221 B.C. till 1279 A.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as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spider diagram from page 4 in your books, adding any extra points that you feel are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rough the three sources about China (A-C on page 5) and make a list of points that show China was civilil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s a group compare the three civilizations: which one is the most civilized and why? Be prepared to provide evidence from th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8-02-26T06:29:13Z</dcterms:modified>
  <cp:revision>3</cp:revision>
  <dc:subject/>
  <dc:title> What makes a society civilised?</dc:title>
</cp:coreProperties>
</file>